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5.wmf" ContentType="image/x-wmf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7.wmf" ContentType="image/x-wmf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2BBB-5F87-4DA6-8E5E-3BB37D9428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0DD-2209-47B2-BAA8-B30C45EDD7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5FB-8A60-4C3C-825C-81FF93A6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257-97F7-498D-A88B-D3A3BBB7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BC1-B10A-4433-A0C7-97037348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406-06CC-4940-9C52-F2F67A59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428-4F0F-41D1-9DDF-B3C2C445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450-466F-41CF-9AA2-2345C125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4BA-BADD-434C-8AF9-B8A6663B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672-7A2F-40F9-B3D0-65812BA0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F2C-17A6-4930-B3BA-CD16DC3A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977-3D97-4DDE-98B3-33C47A1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02D-7ABA-4F5D-B75A-D9AC263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33E-F120-4F1D-9085-D89D1542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5110-9BF2-4A9A-9313-B84BC3241C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package" Target="../embeddings/oleObject2.doc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4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5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6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8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9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0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1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package" Target="../embeddings/oleObject7.docx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4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5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26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27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28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29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2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3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34.wmf"/><Relationship Id="rId16" Type="http://schemas.openxmlformats.org/officeDocument/2006/relationships/package" Target="../embeddings/oleObject6.docx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7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8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9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02112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4.1.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可分离变量的微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问题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1357200" y="1214280"/>
          <a:ext cx="7135920" cy="157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1214280"/>
                    <a:ext cx="7135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question-red.png"/>
          <p:cNvPicPr/>
          <p:nvPr/>
        </p:nvPicPr>
        <p:blipFill>
          <a:blip r:embed="rId8"/>
          <a:stretch/>
        </p:blipFill>
        <p:spPr>
          <a:xfrm>
            <a:off x="571680" y="785880"/>
            <a:ext cx="86328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29"/>
          <p:cNvGraphicFramePr/>
          <p:nvPr/>
        </p:nvGraphicFramePr>
        <p:xfrm>
          <a:off x="928800" y="2357280"/>
          <a:ext cx="7358040" cy="2646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5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8800" y="2357280"/>
                    <a:ext cx="73580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7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8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8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8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9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" name="Object 2"/>
          <p:cNvGraphicFramePr/>
          <p:nvPr/>
        </p:nvGraphicFramePr>
        <p:xfrm>
          <a:off x="714240" y="714240"/>
          <a:ext cx="8021880" cy="2357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240" y="714240"/>
                    <a:ext cx="80218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27"/>
          <p:cNvGraphicFramePr/>
          <p:nvPr/>
        </p:nvGraphicFramePr>
        <p:xfrm>
          <a:off x="785880" y="2786040"/>
          <a:ext cx="7605720" cy="30718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1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2786040"/>
                    <a:ext cx="760572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2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1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4" name="Object 2"/>
          <p:cNvGraphicFramePr/>
          <p:nvPr/>
        </p:nvGraphicFramePr>
        <p:xfrm>
          <a:off x="1071720" y="642960"/>
          <a:ext cx="7286400" cy="1569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71720" y="642960"/>
                    <a:ext cx="72864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1785960" y="2071800"/>
          <a:ext cx="6715080" cy="19288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85960" y="2071800"/>
                    <a:ext cx="67150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714240" y="3714840"/>
          <a:ext cx="7575840" cy="207144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14240" y="3714840"/>
                    <a:ext cx="757584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1000080" y="1143000"/>
          <a:ext cx="4643640" cy="10191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00080" y="1143000"/>
                    <a:ext cx="4643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7"/>
          <p:cNvGraphicFramePr/>
          <p:nvPr/>
        </p:nvGraphicFramePr>
        <p:xfrm>
          <a:off x="785880" y="1571760"/>
          <a:ext cx="3149640" cy="97308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85880" y="1571760"/>
                    <a:ext cx="31496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8"/>
          <p:cNvGraphicFramePr/>
          <p:nvPr/>
        </p:nvGraphicFramePr>
        <p:xfrm>
          <a:off x="857160" y="2143080"/>
          <a:ext cx="1287720" cy="65556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57160" y="2143080"/>
                    <a:ext cx="1287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38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1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44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47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0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5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5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" name="Object 2"/>
          <p:cNvGraphicFramePr/>
          <p:nvPr/>
        </p:nvGraphicFramePr>
        <p:xfrm>
          <a:off x="571680" y="714240"/>
          <a:ext cx="8072280" cy="2357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714240"/>
                    <a:ext cx="80722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"/>
          <p:cNvGraphicFramePr/>
          <p:nvPr/>
        </p:nvGraphicFramePr>
        <p:xfrm>
          <a:off x="1357200" y="3571920"/>
          <a:ext cx="5954760" cy="12859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57200" y="3571920"/>
                    <a:ext cx="5954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2"/>
          <p:cNvGraphicFramePr/>
          <p:nvPr/>
        </p:nvGraphicFramePr>
        <p:xfrm>
          <a:off x="1285920" y="1571760"/>
          <a:ext cx="4643280" cy="10191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63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85920" y="1571760"/>
                    <a:ext cx="46432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7"/>
          <p:cNvGraphicFramePr/>
          <p:nvPr/>
        </p:nvGraphicFramePr>
        <p:xfrm>
          <a:off x="1428840" y="2286000"/>
          <a:ext cx="3119400" cy="9540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2286000"/>
                    <a:ext cx="31194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8"/>
          <p:cNvGraphicFramePr/>
          <p:nvPr/>
        </p:nvGraphicFramePr>
        <p:xfrm>
          <a:off x="1285920" y="2786040"/>
          <a:ext cx="1287360" cy="65556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6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85920" y="2786040"/>
                    <a:ext cx="12873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1"/>
          <p:cNvGraphicFramePr/>
          <p:nvPr/>
        </p:nvGraphicFramePr>
        <p:xfrm>
          <a:off x="2428920" y="2786040"/>
          <a:ext cx="1500120" cy="531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0" name="Object 3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28920" y="2786040"/>
                    <a:ext cx="1500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33"/>
          <p:cNvGraphicFramePr/>
          <p:nvPr/>
        </p:nvGraphicFramePr>
        <p:xfrm>
          <a:off x="1285920" y="4357800"/>
          <a:ext cx="5429160" cy="1649160"/>
        </p:xfrm>
        <a:graphic>
          <a:graphicData uri="http://schemas.openxmlformats.org/presentationml/2006/ole">
            <p:oleObj progId="Word.Document.12" r:id="rId18" spid="">
              <p:embed/>
              <p:pic>
                <p:nvPicPr>
                  <p:cNvPr id="172" name="Object 3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85920" y="4357800"/>
                    <a:ext cx="542916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7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6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89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2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Object 2"/>
          <p:cNvGraphicFramePr/>
          <p:nvPr/>
        </p:nvGraphicFramePr>
        <p:xfrm>
          <a:off x="1000080" y="857160"/>
          <a:ext cx="5970600" cy="1216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857160"/>
                    <a:ext cx="59706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3"/>
          <p:cNvGraphicFramePr/>
          <p:nvPr/>
        </p:nvGraphicFramePr>
        <p:xfrm>
          <a:off x="928800" y="1428840"/>
          <a:ext cx="6715080" cy="1260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28800" y="1428840"/>
                    <a:ext cx="67150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0"/>
          <p:cNvGraphicFramePr/>
          <p:nvPr/>
        </p:nvGraphicFramePr>
        <p:xfrm>
          <a:off x="1143000" y="2138400"/>
          <a:ext cx="6494400" cy="1224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00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138400"/>
                    <a:ext cx="64944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1"/>
          <p:cNvGraphicFramePr/>
          <p:nvPr/>
        </p:nvGraphicFramePr>
        <p:xfrm>
          <a:off x="1785960" y="3571920"/>
          <a:ext cx="6431040" cy="13590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02" name="Object 3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85960" y="3571920"/>
                    <a:ext cx="64310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32"/>
          <p:cNvGraphicFramePr/>
          <p:nvPr/>
        </p:nvGraphicFramePr>
        <p:xfrm>
          <a:off x="1000080" y="4214880"/>
          <a:ext cx="5711760" cy="128592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04" name="Object 3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00080" y="4214880"/>
                    <a:ext cx="57117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33"/>
          <p:cNvGraphicFramePr/>
          <p:nvPr/>
        </p:nvGraphicFramePr>
        <p:xfrm>
          <a:off x="1214280" y="2786040"/>
          <a:ext cx="7202520" cy="13572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206" name="Object 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14280" y="2786040"/>
                    <a:ext cx="720252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0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1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1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56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2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2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Object 4"/>
          <p:cNvGraphicFramePr/>
          <p:nvPr/>
        </p:nvGraphicFramePr>
        <p:xfrm>
          <a:off x="785880" y="928800"/>
          <a:ext cx="7477200" cy="1147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928800"/>
                    <a:ext cx="747720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5"/>
          <p:cNvGraphicFramePr/>
          <p:nvPr/>
        </p:nvGraphicFramePr>
        <p:xfrm>
          <a:off x="857160" y="1500120"/>
          <a:ext cx="5000760" cy="1428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7160" y="1500120"/>
                    <a:ext cx="50007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1571760" y="2286000"/>
          <a:ext cx="6238800" cy="12780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1760" y="2286000"/>
                    <a:ext cx="62388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7"/>
          <p:cNvGraphicFramePr/>
          <p:nvPr/>
        </p:nvGraphicFramePr>
        <p:xfrm>
          <a:off x="1643040" y="3857760"/>
          <a:ext cx="5560920" cy="10681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43040" y="3857760"/>
                    <a:ext cx="556092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1"/>
          <p:cNvGraphicFramePr/>
          <p:nvPr/>
        </p:nvGraphicFramePr>
        <p:xfrm>
          <a:off x="1071720" y="4500720"/>
          <a:ext cx="7176960" cy="114300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71720" y="4500720"/>
                    <a:ext cx="7176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2"/>
          <p:cNvGraphicFramePr/>
          <p:nvPr/>
        </p:nvGraphicFramePr>
        <p:xfrm>
          <a:off x="1500120" y="3000240"/>
          <a:ext cx="6240600" cy="127800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240" name="Object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500120" y="3000240"/>
                    <a:ext cx="62406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3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6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9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2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3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6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13"/>
          <p:cNvSpPr/>
          <p:nvPr/>
        </p:nvSpPr>
        <p:spPr>
          <a:xfrm>
            <a:off x="692280" y="1285200"/>
            <a:ext cx="1368360" cy="496440"/>
          </a:xfrm>
          <a:prstGeom prst="flowChartAlternateProcess">
            <a:avLst/>
          </a:prstGeom>
          <a:solidFill>
            <a:srgbClr val="edfba7"/>
          </a:solidFill>
          <a:ln w="38160">
            <a:solidFill>
              <a:srgbClr val="8e6900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105"/>
          <p:cNvGraphicFramePr/>
          <p:nvPr/>
        </p:nvGraphicFramePr>
        <p:xfrm>
          <a:off x="714240" y="1143000"/>
          <a:ext cx="6836040" cy="12175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5" name="Object 10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240" y="1143000"/>
                    <a:ext cx="683604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07"/>
          <p:cNvGraphicFramePr/>
          <p:nvPr/>
        </p:nvGraphicFramePr>
        <p:xfrm>
          <a:off x="1857240" y="3071880"/>
          <a:ext cx="5268960" cy="11430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67" name="Object 10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57240" y="3071880"/>
                    <a:ext cx="5268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2"/>
          <p:cNvGraphicFramePr/>
          <p:nvPr/>
        </p:nvGraphicFramePr>
        <p:xfrm>
          <a:off x="1071720" y="1714680"/>
          <a:ext cx="6414840" cy="10299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69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71720" y="1714680"/>
                    <a:ext cx="6414840" cy="10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5"/>
          <p:cNvGraphicFramePr/>
          <p:nvPr/>
        </p:nvGraphicFramePr>
        <p:xfrm>
          <a:off x="2214720" y="2286000"/>
          <a:ext cx="5268600" cy="10303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14720" y="2286000"/>
                    <a:ext cx="52686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7"/>
          <p:cNvGraphicFramePr/>
          <p:nvPr/>
        </p:nvGraphicFramePr>
        <p:xfrm>
          <a:off x="642960" y="3857760"/>
          <a:ext cx="7786800" cy="142236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73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2960" y="3857760"/>
                    <a:ext cx="7786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6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9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2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5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50"/>
          <p:cNvSpPr/>
          <p:nvPr/>
        </p:nvSpPr>
        <p:spPr>
          <a:xfrm>
            <a:off x="2592360" y="2951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分离变量微分方程的特点和解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4264200" y="44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分离变量的微分方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92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5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1:20Z</dcterms:modified>
  <cp:revision>75</cp:revision>
  <dc:subject/>
  <dc:title>幻灯片 1</dc:title>
</cp:coreProperties>
</file>